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4A9-88EF-4F41-8D14-F63E026E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949-7FB8-445D-8761-B1243B15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59C-ABE8-4F9A-996E-6AD74C0D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D69-9F6F-493E-AB52-BC02E87C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058-CA24-4905-B647-DFA9194A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CBF-A66E-4736-BB83-FA75628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DAB-AADE-4594-A0F8-35AD6B62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1B5-C4F8-41CE-96C1-0A0C204F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C90A-A6CF-4A4A-9D42-3886D3A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221-8ABE-4116-9511-801909D1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2CD-A3F7-4832-8462-4287DF8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DE4-C7B2-4FAA-9356-69988831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116F-0A3D-4478-9AB3-CCB6DFDDC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49920" y="3036960"/>
            <a:ext cx="1388880" cy="1805040"/>
          </a:xfrm>
          <a:custGeom>
            <a:avLst/>
            <a:gdLst/>
            <a:ahLst/>
            <a:rect l="l" t="t" r="r" b="b"/>
            <a:pathLst>
              <a:path w="875" h="1137">
                <a:moveTo>
                  <a:pt x="0" y="12"/>
                </a:moveTo>
                <a:lnTo>
                  <a:pt x="27" y="62"/>
                </a:lnTo>
                <a:cubicBezTo>
                  <a:pt x="37" y="75"/>
                  <a:pt x="46" y="82"/>
                  <a:pt x="60" y="92"/>
                </a:cubicBezTo>
                <a:cubicBezTo>
                  <a:pt x="75" y="106"/>
                  <a:pt x="85" y="111"/>
                  <a:pt x="110" y="122"/>
                </a:cubicBezTo>
                <a:cubicBezTo>
                  <a:pt x="135" y="133"/>
                  <a:pt x="174" y="149"/>
                  <a:pt x="209" y="158"/>
                </a:cubicBezTo>
                <a:cubicBezTo>
                  <a:pt x="244" y="167"/>
                  <a:pt x="285" y="174"/>
                  <a:pt x="323" y="178"/>
                </a:cubicBezTo>
                <a:cubicBezTo>
                  <a:pt x="361" y="182"/>
                  <a:pt x="402" y="185"/>
                  <a:pt x="439" y="185"/>
                </a:cubicBezTo>
                <a:cubicBezTo>
                  <a:pt x="476" y="185"/>
                  <a:pt x="510" y="183"/>
                  <a:pt x="543" y="179"/>
                </a:cubicBezTo>
                <a:cubicBezTo>
                  <a:pt x="576" y="175"/>
                  <a:pt x="611" y="168"/>
                  <a:pt x="640" y="162"/>
                </a:cubicBezTo>
                <a:cubicBezTo>
                  <a:pt x="669" y="156"/>
                  <a:pt x="691" y="150"/>
                  <a:pt x="716" y="141"/>
                </a:cubicBezTo>
                <a:cubicBezTo>
                  <a:pt x="741" y="132"/>
                  <a:pt x="770" y="117"/>
                  <a:pt x="790" y="106"/>
                </a:cubicBezTo>
                <a:cubicBezTo>
                  <a:pt x="810" y="95"/>
                  <a:pt x="825" y="83"/>
                  <a:pt x="837" y="72"/>
                </a:cubicBezTo>
                <a:lnTo>
                  <a:pt x="861" y="38"/>
                </a:lnTo>
                <a:lnTo>
                  <a:pt x="875" y="0"/>
                </a:lnTo>
                <a:lnTo>
                  <a:pt x="871" y="1137"/>
                </a:lnTo>
                <a:lnTo>
                  <a:pt x="0" y="1137"/>
                </a:lnTo>
                <a:lnTo>
                  <a:pt x="0" y="12"/>
                </a:lnTo>
                <a:close/>
              </a:path>
            </a:pathLst>
          </a:custGeom>
          <a:gradFill rotWithShape="0">
            <a:gsLst>
              <a:gs pos="0">
                <a:srgbClr val="898b8b"/>
              </a:gs>
              <a:gs pos="50000">
                <a:srgbClr val="d1d3d3"/>
              </a:gs>
              <a:gs pos="100000">
                <a:srgbClr val="898b8b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43880" y="2743200"/>
            <a:ext cx="1341360" cy="2104920"/>
          </a:xfrm>
          <a:custGeom>
            <a:avLst/>
            <a:gdLst/>
            <a:ahLst/>
            <a:rect l="l" t="t" r="r" b="b"/>
            <a:pathLst>
              <a:path w="845" h="1326">
                <a:moveTo>
                  <a:pt x="0" y="0"/>
                </a:moveTo>
                <a:lnTo>
                  <a:pt x="845" y="367"/>
                </a:lnTo>
                <a:lnTo>
                  <a:pt x="845" y="1322"/>
                </a:lnTo>
                <a:lnTo>
                  <a:pt x="0" y="132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e9f9f"/>
              </a:gs>
              <a:gs pos="50000">
                <a:srgbClr val="d1d3d3"/>
              </a:gs>
              <a:gs pos="100000">
                <a:srgbClr val="9e9f9f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48120" y="5361120"/>
            <a:ext cx="1386000" cy="1328760"/>
          </a:xfrm>
          <a:prstGeom prst="ellipse">
            <a:avLst/>
          </a:prstGeom>
          <a:gradFill rotWithShape="0">
            <a:gsLst>
              <a:gs pos="0">
                <a:srgbClr val="d1d3d3"/>
              </a:gs>
              <a:gs pos="100000">
                <a:srgbClr val="9c9e9e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726240" y="2725560"/>
            <a:ext cx="1357200" cy="587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49920" y="2730600"/>
            <a:ext cx="1382760" cy="588960"/>
          </a:xfrm>
          <a:prstGeom prst="ellipse">
            <a:avLst/>
          </a:prstGeom>
          <a:gradFill rotWithShape="0">
            <a:gsLst>
              <a:gs pos="0">
                <a:srgbClr val="d1d3d3"/>
              </a:gs>
              <a:gs pos="100000">
                <a:srgbClr val="a8aaaa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49920" y="3025800"/>
            <a:ext cx="0" cy="18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38800" y="30258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85240" y="3319560"/>
            <a:ext cx="0" cy="152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50000" y="2730600"/>
            <a:ext cx="133524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3440" y="4842000"/>
            <a:ext cx="138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38840" y="4849920"/>
            <a:ext cx="134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2725560"/>
            <a:ext cx="0" cy="212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631000">
            <a:off x="7150680" y="1412280"/>
            <a:ext cx="1311120" cy="1461960"/>
          </a:xfrm>
          <a:prstGeom prst="ellipse">
            <a:avLst/>
          </a:prstGeom>
          <a:gradFill rotWithShape="0">
            <a:gsLst>
              <a:gs pos="0">
                <a:srgbClr val="f27f4c"/>
              </a:gs>
              <a:gs pos="100000">
                <a:srgbClr val="8e4a2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66760" y="241200"/>
            <a:ext cx="5791320" cy="2060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veloping True shapes of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clined circular plan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199280" y="1681200"/>
            <a:ext cx="12175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u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hap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606600" y="5235480"/>
            <a:ext cx="2565360" cy="555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0400" y="2711520"/>
            <a:ext cx="2595600" cy="3068640"/>
          </a:xfrm>
          <a:custGeom>
            <a:avLst/>
            <a:gdLst/>
            <a:ahLst/>
            <a:rect l="l" t="t" r="r" b="b"/>
            <a:pathLst>
              <a:path w="1635" h="1933">
                <a:moveTo>
                  <a:pt x="12" y="0"/>
                </a:moveTo>
                <a:lnTo>
                  <a:pt x="45" y="97"/>
                </a:lnTo>
                <a:cubicBezTo>
                  <a:pt x="61" y="124"/>
                  <a:pt x="69" y="130"/>
                  <a:pt x="109" y="162"/>
                </a:cubicBezTo>
                <a:cubicBezTo>
                  <a:pt x="148" y="195"/>
                  <a:pt x="219" y="252"/>
                  <a:pt x="283" y="294"/>
                </a:cubicBezTo>
                <a:cubicBezTo>
                  <a:pt x="346" y="336"/>
                  <a:pt x="401" y="378"/>
                  <a:pt x="476" y="420"/>
                </a:cubicBezTo>
                <a:cubicBezTo>
                  <a:pt x="552" y="462"/>
                  <a:pt x="639" y="509"/>
                  <a:pt x="737" y="554"/>
                </a:cubicBezTo>
                <a:cubicBezTo>
                  <a:pt x="836" y="599"/>
                  <a:pt x="955" y="647"/>
                  <a:pt x="1066" y="683"/>
                </a:cubicBezTo>
                <a:cubicBezTo>
                  <a:pt x="1176" y="719"/>
                  <a:pt x="1323" y="758"/>
                  <a:pt x="1410" y="770"/>
                </a:cubicBezTo>
                <a:cubicBezTo>
                  <a:pt x="1497" y="782"/>
                  <a:pt x="1564" y="773"/>
                  <a:pt x="1599" y="761"/>
                </a:cubicBezTo>
                <a:lnTo>
                  <a:pt x="1627" y="698"/>
                </a:lnTo>
                <a:cubicBezTo>
                  <a:pt x="1631" y="868"/>
                  <a:pt x="1635" y="1586"/>
                  <a:pt x="1627" y="1777"/>
                </a:cubicBezTo>
                <a:lnTo>
                  <a:pt x="1576" y="1840"/>
                </a:lnTo>
                <a:cubicBezTo>
                  <a:pt x="1524" y="1861"/>
                  <a:pt x="1425" y="1894"/>
                  <a:pt x="1315" y="1909"/>
                </a:cubicBezTo>
                <a:cubicBezTo>
                  <a:pt x="1204" y="1924"/>
                  <a:pt x="1042" y="1927"/>
                  <a:pt x="911" y="1930"/>
                </a:cubicBezTo>
                <a:cubicBezTo>
                  <a:pt x="781" y="1933"/>
                  <a:pt x="643" y="1927"/>
                  <a:pt x="532" y="1921"/>
                </a:cubicBezTo>
                <a:cubicBezTo>
                  <a:pt x="421" y="1915"/>
                  <a:pt x="318" y="1900"/>
                  <a:pt x="235" y="1885"/>
                </a:cubicBezTo>
                <a:cubicBezTo>
                  <a:pt x="152" y="1870"/>
                  <a:pt x="61" y="1846"/>
                  <a:pt x="22" y="1828"/>
                </a:cubicBezTo>
                <a:lnTo>
                  <a:pt x="2" y="1769"/>
                </a:lnTo>
                <a:cubicBezTo>
                  <a:pt x="0" y="1464"/>
                  <a:pt x="12" y="0"/>
                  <a:pt x="12" y="0"/>
                </a:cubicBezTo>
                <a:close/>
              </a:path>
            </a:pathLst>
          </a:custGeom>
          <a:gradFill rotWithShape="0">
            <a:gsLst>
              <a:gs pos="0">
                <a:srgbClr val="545454"/>
              </a:gs>
              <a:gs pos="50000">
                <a:srgbClr val="808080"/>
              </a:gs>
              <a:gs pos="100000">
                <a:srgbClr val="545454"/>
              </a:gs>
            </a:gsLst>
            <a:lin ang="10800000"/>
          </a:gra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443600">
            <a:off x="495000" y="2933280"/>
            <a:ext cx="2809800" cy="663480"/>
          </a:xfrm>
          <a:prstGeom prst="ellipse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lin ang="6654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86000" y="3790800"/>
            <a:ext cx="0" cy="172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0640" y="2759040"/>
            <a:ext cx="0" cy="272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466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2751120" y="5727600"/>
            <a:ext cx="3262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532400" y="1424160"/>
            <a:ext cx="1630440" cy="718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295600" y="595440"/>
            <a:ext cx="716040" cy="1622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04960" y="5729400"/>
            <a:ext cx="1017720" cy="5868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5148360" y="4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12142200">
            <a:off x="6152760" y="2285640"/>
            <a:ext cx="1017720" cy="5868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626000" y="13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" dur="1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82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7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522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751120" y="5727600"/>
            <a:ext cx="3262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32400" y="1424160"/>
            <a:ext cx="1630440" cy="718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5295600" y="595440"/>
            <a:ext cx="716040" cy="1622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5148360" y="4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rot="12142200">
            <a:off x="6733440" y="1179360"/>
            <a:ext cx="1017720" cy="5904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626000" y="13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5176440" y="345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0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578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32400" y="1424160"/>
            <a:ext cx="1630440" cy="718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5295960" y="214200"/>
            <a:ext cx="884160" cy="2003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73040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916520" y="878040"/>
            <a:ext cx="2741760" cy="1207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148360" y="4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626000" y="13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176440" y="345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7286760" y="1787400"/>
            <a:ext cx="668160" cy="398880"/>
            <a:chOff x="7286760" y="1787400"/>
            <a:chExt cx="668160" cy="398880"/>
          </a:xfrm>
        </p:grpSpPr>
        <p:sp>
          <p:nvSpPr>
            <p:cNvPr id="619" name=""/>
            <p:cNvSpPr/>
            <p:nvPr/>
          </p:nvSpPr>
          <p:spPr>
            <a:xfrm>
              <a:off x="7286760" y="181620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313760" y="178740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965920" y="152280"/>
            <a:ext cx="668160" cy="398880"/>
            <a:chOff x="5965920" y="152280"/>
            <a:chExt cx="668160" cy="398880"/>
          </a:xfrm>
        </p:grpSpPr>
        <p:sp>
          <p:nvSpPr>
            <p:cNvPr id="622" name=""/>
            <p:cNvSpPr/>
            <p:nvPr/>
          </p:nvSpPr>
          <p:spPr>
            <a:xfrm>
              <a:off x="5965920" y="18108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92920" y="1522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"/>
          <p:cNvSpPr txBox="1"/>
          <p:nvPr/>
        </p:nvSpPr>
        <p:spPr>
          <a:xfrm>
            <a:off x="6575400" y="2835360"/>
            <a:ext cx="2070000" cy="16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rk the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entre 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nes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5" name=""/>
          <p:cNvSpPr/>
          <p:nvPr/>
        </p:nvSpPr>
        <p:spPr>
          <a:xfrm>
            <a:off x="420840" y="928800"/>
            <a:ext cx="204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5. Mark  the centre lines to help guide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640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532400" y="1424160"/>
            <a:ext cx="1630440" cy="718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295960" y="214200"/>
            <a:ext cx="884160" cy="2003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473040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916520" y="878040"/>
            <a:ext cx="2741760" cy="1207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 flipV="1">
            <a:off x="5148360" y="4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626000" y="13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5176440" y="345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7286760" y="1787400"/>
            <a:ext cx="668160" cy="398880"/>
            <a:chOff x="7286760" y="1787400"/>
            <a:chExt cx="668160" cy="398880"/>
          </a:xfrm>
        </p:grpSpPr>
        <p:sp>
          <p:nvSpPr>
            <p:cNvPr id="681" name=""/>
            <p:cNvSpPr/>
            <p:nvPr/>
          </p:nvSpPr>
          <p:spPr>
            <a:xfrm>
              <a:off x="7286760" y="181620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13760" y="178740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5965920" y="152280"/>
            <a:ext cx="668160" cy="398880"/>
            <a:chOff x="5965920" y="152280"/>
            <a:chExt cx="668160" cy="398880"/>
          </a:xfrm>
        </p:grpSpPr>
        <p:sp>
          <p:nvSpPr>
            <p:cNvPr id="684" name=""/>
            <p:cNvSpPr/>
            <p:nvPr/>
          </p:nvSpPr>
          <p:spPr>
            <a:xfrm>
              <a:off x="5965920" y="18108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92920" y="1522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5065560" y="777960"/>
            <a:ext cx="139680" cy="168120"/>
          </a:xfrm>
          <a:custGeom>
            <a:avLst/>
            <a:gdLst/>
            <a:ahLst/>
            <a:rect l="l" t="t" r="r" b="b"/>
            <a:pathLst>
              <a:path w="88" h="106">
                <a:moveTo>
                  <a:pt x="0" y="106"/>
                </a:moveTo>
                <a:cubicBezTo>
                  <a:pt x="7" y="96"/>
                  <a:pt x="28" y="61"/>
                  <a:pt x="43" y="43"/>
                </a:cubicBezTo>
                <a:cubicBezTo>
                  <a:pt x="58" y="25"/>
                  <a:pt x="79" y="9"/>
                  <a:pt x="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210280" y="635040"/>
            <a:ext cx="249120" cy="144360"/>
          </a:xfrm>
          <a:custGeom>
            <a:avLst/>
            <a:gdLst/>
            <a:ahLst/>
            <a:rect l="l" t="t" r="r" b="b"/>
            <a:pathLst>
              <a:path w="157" h="91">
                <a:moveTo>
                  <a:pt x="0" y="91"/>
                </a:moveTo>
                <a:cubicBezTo>
                  <a:pt x="12" y="81"/>
                  <a:pt x="48" y="48"/>
                  <a:pt x="74" y="33"/>
                </a:cubicBezTo>
                <a:cubicBezTo>
                  <a:pt x="100" y="18"/>
                  <a:pt x="140" y="7"/>
                  <a:pt x="1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459400" y="588960"/>
            <a:ext cx="271440" cy="44280"/>
          </a:xfrm>
          <a:custGeom>
            <a:avLst/>
            <a:gdLst/>
            <a:ahLst/>
            <a:rect l="l" t="t" r="r" b="b"/>
            <a:pathLst>
              <a:path w="171" h="28">
                <a:moveTo>
                  <a:pt x="0" y="28"/>
                </a:moveTo>
                <a:lnTo>
                  <a:pt x="88" y="5"/>
                </a:lnTo>
                <a:lnTo>
                  <a:pt x="1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590400"/>
            <a:ext cx="262080" cy="54000"/>
          </a:xfrm>
          <a:custGeom>
            <a:avLst/>
            <a:gdLst/>
            <a:ahLst/>
            <a:rect l="l" t="t" r="r" b="b"/>
            <a:pathLst>
              <a:path w="165" h="34">
                <a:moveTo>
                  <a:pt x="0" y="0"/>
                </a:moveTo>
                <a:lnTo>
                  <a:pt x="83" y="8"/>
                </a:lnTo>
                <a:lnTo>
                  <a:pt x="165" y="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992920" y="642960"/>
            <a:ext cx="217440" cy="158760"/>
          </a:xfrm>
          <a:custGeom>
            <a:avLst/>
            <a:gdLst/>
            <a:ahLst/>
            <a:rect l="l" t="t" r="r" b="b"/>
            <a:pathLst>
              <a:path w="137" h="100">
                <a:moveTo>
                  <a:pt x="0" y="0"/>
                </a:moveTo>
                <a:cubicBezTo>
                  <a:pt x="15" y="9"/>
                  <a:pt x="66" y="37"/>
                  <a:pt x="89" y="54"/>
                </a:cubicBezTo>
                <a:cubicBezTo>
                  <a:pt x="112" y="71"/>
                  <a:pt x="127" y="91"/>
                  <a:pt x="137" y="1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210360" y="801720"/>
            <a:ext cx="195120" cy="249120"/>
          </a:xfrm>
          <a:custGeom>
            <a:avLst/>
            <a:gdLst/>
            <a:ahLst/>
            <a:rect l="l" t="t" r="r" b="b"/>
            <a:pathLst>
              <a:path w="123" h="157">
                <a:moveTo>
                  <a:pt x="0" y="0"/>
                </a:moveTo>
                <a:cubicBezTo>
                  <a:pt x="8" y="7"/>
                  <a:pt x="35" y="31"/>
                  <a:pt x="49" y="45"/>
                </a:cubicBezTo>
                <a:cubicBezTo>
                  <a:pt x="63" y="59"/>
                  <a:pt x="71" y="66"/>
                  <a:pt x="83" y="85"/>
                </a:cubicBezTo>
                <a:cubicBezTo>
                  <a:pt x="95" y="104"/>
                  <a:pt x="115" y="142"/>
                  <a:pt x="123" y="15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405480" y="1050840"/>
            <a:ext cx="50760" cy="274680"/>
          </a:xfrm>
          <a:custGeom>
            <a:avLst/>
            <a:gdLst/>
            <a:ahLst/>
            <a:rect l="l" t="t" r="r" b="b"/>
            <a:pathLst>
              <a:path w="32" h="173">
                <a:moveTo>
                  <a:pt x="0" y="0"/>
                </a:moveTo>
                <a:cubicBezTo>
                  <a:pt x="5" y="14"/>
                  <a:pt x="24" y="56"/>
                  <a:pt x="28" y="85"/>
                </a:cubicBezTo>
                <a:cubicBezTo>
                  <a:pt x="32" y="114"/>
                  <a:pt x="27" y="155"/>
                  <a:pt x="26" y="1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411960" y="1325520"/>
            <a:ext cx="36360" cy="217440"/>
          </a:xfrm>
          <a:custGeom>
            <a:avLst/>
            <a:gdLst/>
            <a:ahLst/>
            <a:rect l="l" t="t" r="r" b="b"/>
            <a:pathLst>
              <a:path w="23" h="137">
                <a:moveTo>
                  <a:pt x="23" y="0"/>
                </a:moveTo>
                <a:cubicBezTo>
                  <a:pt x="19" y="23"/>
                  <a:pt x="5" y="109"/>
                  <a:pt x="0" y="1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264360" y="1539720"/>
            <a:ext cx="145800" cy="198720"/>
          </a:xfrm>
          <a:custGeom>
            <a:avLst/>
            <a:gdLst/>
            <a:ahLst/>
            <a:rect l="l" t="t" r="r" b="b"/>
            <a:pathLst>
              <a:path w="92" h="125">
                <a:moveTo>
                  <a:pt x="92" y="0"/>
                </a:moveTo>
                <a:cubicBezTo>
                  <a:pt x="85" y="11"/>
                  <a:pt x="67" y="47"/>
                  <a:pt x="52" y="68"/>
                </a:cubicBezTo>
                <a:cubicBezTo>
                  <a:pt x="37" y="89"/>
                  <a:pt x="11" y="113"/>
                  <a:pt x="0" y="1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048360" y="1738440"/>
            <a:ext cx="216000" cy="122040"/>
          </a:xfrm>
          <a:custGeom>
            <a:avLst/>
            <a:gdLst/>
            <a:ahLst/>
            <a:rect l="l" t="t" r="r" b="b"/>
            <a:pathLst>
              <a:path w="136" h="77">
                <a:moveTo>
                  <a:pt x="136" y="0"/>
                </a:moveTo>
                <a:cubicBezTo>
                  <a:pt x="125" y="9"/>
                  <a:pt x="91" y="38"/>
                  <a:pt x="68" y="51"/>
                </a:cubicBezTo>
                <a:cubicBezTo>
                  <a:pt x="45" y="64"/>
                  <a:pt x="14" y="72"/>
                  <a:pt x="0" y="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2640" y="1860480"/>
            <a:ext cx="312480" cy="30240"/>
          </a:xfrm>
          <a:custGeom>
            <a:avLst/>
            <a:gdLst/>
            <a:ahLst/>
            <a:rect l="l" t="t" r="r" b="b"/>
            <a:pathLst>
              <a:path w="197" h="19">
                <a:moveTo>
                  <a:pt x="197" y="0"/>
                </a:moveTo>
                <a:cubicBezTo>
                  <a:pt x="181" y="3"/>
                  <a:pt x="135" y="15"/>
                  <a:pt x="102" y="17"/>
                </a:cubicBezTo>
                <a:cubicBezTo>
                  <a:pt x="69" y="19"/>
                  <a:pt x="21" y="15"/>
                  <a:pt x="0" y="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470560" y="1838160"/>
            <a:ext cx="262080" cy="44640"/>
          </a:xfrm>
          <a:custGeom>
            <a:avLst/>
            <a:gdLst/>
            <a:ahLst/>
            <a:rect l="l" t="t" r="r" b="b"/>
            <a:pathLst>
              <a:path w="165" h="28">
                <a:moveTo>
                  <a:pt x="165" y="28"/>
                </a:moveTo>
                <a:cubicBezTo>
                  <a:pt x="151" y="27"/>
                  <a:pt x="108" y="28"/>
                  <a:pt x="81" y="23"/>
                </a:cubicBezTo>
                <a:cubicBezTo>
                  <a:pt x="54" y="18"/>
                  <a:pt x="17" y="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251320" y="1671480"/>
            <a:ext cx="212760" cy="163800"/>
          </a:xfrm>
          <a:custGeom>
            <a:avLst/>
            <a:gdLst/>
            <a:ahLst/>
            <a:rect l="l" t="t" r="r" b="b"/>
            <a:pathLst>
              <a:path w="134" h="103">
                <a:moveTo>
                  <a:pt x="134" y="103"/>
                </a:moveTo>
                <a:cubicBezTo>
                  <a:pt x="120" y="95"/>
                  <a:pt x="73" y="70"/>
                  <a:pt x="51" y="53"/>
                </a:cubicBezTo>
                <a:cubicBezTo>
                  <a:pt x="29" y="36"/>
                  <a:pt x="11" y="1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103720" y="1449360"/>
            <a:ext cx="144720" cy="217440"/>
          </a:xfrm>
          <a:custGeom>
            <a:avLst/>
            <a:gdLst/>
            <a:ahLst/>
            <a:rect l="l" t="t" r="r" b="b"/>
            <a:pathLst>
              <a:path w="91" h="137">
                <a:moveTo>
                  <a:pt x="91" y="137"/>
                </a:moveTo>
                <a:cubicBezTo>
                  <a:pt x="81" y="125"/>
                  <a:pt x="48" y="88"/>
                  <a:pt x="33" y="65"/>
                </a:cubicBezTo>
                <a:cubicBezTo>
                  <a:pt x="18" y="42"/>
                  <a:pt x="7" y="1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030640" y="1187280"/>
            <a:ext cx="68400" cy="258840"/>
          </a:xfrm>
          <a:custGeom>
            <a:avLst/>
            <a:gdLst/>
            <a:ahLst/>
            <a:rect l="l" t="t" r="r" b="b"/>
            <a:pathLst>
              <a:path w="43" h="163">
                <a:moveTo>
                  <a:pt x="43" y="163"/>
                </a:moveTo>
                <a:cubicBezTo>
                  <a:pt x="37" y="149"/>
                  <a:pt x="15" y="106"/>
                  <a:pt x="8" y="79"/>
                </a:cubicBezTo>
                <a:cubicBezTo>
                  <a:pt x="1" y="52"/>
                  <a:pt x="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27760" y="946080"/>
            <a:ext cx="42840" cy="235080"/>
          </a:xfrm>
          <a:custGeom>
            <a:avLst/>
            <a:gdLst/>
            <a:ahLst/>
            <a:rect l="l" t="t" r="r" b="b"/>
            <a:pathLst>
              <a:path w="27" h="148">
                <a:moveTo>
                  <a:pt x="1" y="148"/>
                </a:moveTo>
                <a:cubicBezTo>
                  <a:pt x="1" y="136"/>
                  <a:pt x="0" y="102"/>
                  <a:pt x="4" y="77"/>
                </a:cubicBezTo>
                <a:cubicBezTo>
                  <a:pt x="8" y="52"/>
                  <a:pt x="22" y="16"/>
                  <a:pt x="2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20840" y="928800"/>
            <a:ext cx="204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6. Mark out the true shape by passing a line through each intersec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1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0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0"/>
                            </p:stCondLst>
                            <p:childTnLst>
                              <p:par>
                                <p:cTn id="4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0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9000"/>
                            </p:stCondLst>
                            <p:childTnLst>
                              <p:par>
                                <p:cTn id="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1000"/>
                            </p:stCondLst>
                            <p:childTnLst>
                              <p:par>
                                <p:cTn id="4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2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3000"/>
                            </p:stCondLst>
                            <p:childTnLst>
                              <p:par>
                                <p:cTn id="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6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50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717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32400" y="1424160"/>
            <a:ext cx="1630440" cy="718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5295960" y="214200"/>
            <a:ext cx="884160" cy="20034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73040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916520" y="878040"/>
            <a:ext cx="2741760" cy="1207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5148360" y="4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626000" y="13953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5176440" y="345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7286760" y="1787400"/>
            <a:ext cx="668160" cy="398880"/>
            <a:chOff x="7286760" y="1787400"/>
            <a:chExt cx="668160" cy="398880"/>
          </a:xfrm>
        </p:grpSpPr>
        <p:sp>
          <p:nvSpPr>
            <p:cNvPr id="758" name=""/>
            <p:cNvSpPr/>
            <p:nvPr/>
          </p:nvSpPr>
          <p:spPr>
            <a:xfrm>
              <a:off x="7286760" y="181620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13760" y="178740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5965920" y="152280"/>
            <a:ext cx="668160" cy="398880"/>
            <a:chOff x="5965920" y="152280"/>
            <a:chExt cx="668160" cy="398880"/>
          </a:xfrm>
        </p:grpSpPr>
        <p:sp>
          <p:nvSpPr>
            <p:cNvPr id="761" name=""/>
            <p:cNvSpPr/>
            <p:nvPr/>
          </p:nvSpPr>
          <p:spPr>
            <a:xfrm>
              <a:off x="5965920" y="181080"/>
              <a:ext cx="66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92920" y="152280"/>
              <a:ext cx="4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rot="17631000">
            <a:off x="5080680" y="510120"/>
            <a:ext cx="1311480" cy="1461960"/>
          </a:xfrm>
          <a:prstGeom prst="ellipse">
            <a:avLst/>
          </a:prstGeom>
          <a:gradFill rotWithShape="0">
            <a:gsLst>
              <a:gs pos="0">
                <a:srgbClr val="fcf9eb"/>
              </a:gs>
              <a:gs pos="100000">
                <a:srgbClr val="fae8a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58640" y="360360"/>
            <a:ext cx="36385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ue Shape of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clined fac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5" name=""/>
          <p:cNvSpPr/>
          <p:nvPr/>
        </p:nvSpPr>
        <p:spPr>
          <a:xfrm>
            <a:off x="4194000" y="942840"/>
            <a:ext cx="1335240" cy="378000"/>
          </a:xfrm>
          <a:prstGeom prst="rightArrow">
            <a:avLst>
              <a:gd name="adj1" fmla="val 50000"/>
              <a:gd name="adj2" fmla="val 8831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63520" y="160200"/>
            <a:ext cx="8540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ke orthographic drawin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530800" y="4854600"/>
            <a:ext cx="1635840" cy="6361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54440" y="4570560"/>
            <a:ext cx="1164960" cy="11649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157560" y="4458960"/>
            <a:ext cx="600120" cy="13618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67652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1. Start with a plan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0680" y="1298520"/>
            <a:ext cx="0" cy="46893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8120" y="5130720"/>
            <a:ext cx="242280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73060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2. Break the circle up into quarters then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429264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. Set a base line and project the sides of the circle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79680" y="3948120"/>
            <a:ext cx="64278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768760" y="1473120"/>
            <a:ext cx="0" cy="35560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152960" y="1447920"/>
            <a:ext cx="0" cy="36828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2960" y="3936960"/>
            <a:ext cx="2298600" cy="22986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54560" y="4444920"/>
            <a:ext cx="189216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54560" y="5791320"/>
            <a:ext cx="281916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994360" y="1333440"/>
            <a:ext cx="0" cy="45338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648320" y="1409760"/>
            <a:ext cx="0" cy="31240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1714680"/>
            <a:ext cx="1638360" cy="9460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4560" y="1703520"/>
            <a:ext cx="214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4. Mark in diagonal and project across and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4160" y="2746440"/>
            <a:ext cx="218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5. Mark of the height and set the angle of the inclined plane and firm in the out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38600" y="1700280"/>
            <a:ext cx="1357560" cy="2247840"/>
          </a:xfrm>
          <a:custGeom>
            <a:avLst/>
            <a:gdLst/>
            <a:ahLst/>
            <a:rect l="l" t="t" r="r" b="b"/>
            <a:pathLst>
              <a:path w="855" h="1416">
                <a:moveTo>
                  <a:pt x="3" y="0"/>
                </a:moveTo>
                <a:lnTo>
                  <a:pt x="0" y="1413"/>
                </a:lnTo>
                <a:lnTo>
                  <a:pt x="852" y="1416"/>
                </a:lnTo>
                <a:lnTo>
                  <a:pt x="855" y="495"/>
                </a:lnTo>
                <a:lnTo>
                  <a:pt x="3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40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6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8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2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4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22280" y="281160"/>
            <a:ext cx="834552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velop the end elev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1579680" y="3948120"/>
            <a:ext cx="642780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63920" y="1685880"/>
            <a:ext cx="0" cy="45212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16160" y="5126040"/>
            <a:ext cx="320688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63920" y="4459320"/>
            <a:ext cx="125892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63920" y="5788080"/>
            <a:ext cx="290988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760120" y="5137200"/>
            <a:ext cx="701280" cy="27000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03400" y="5133960"/>
            <a:ext cx="555840" cy="5554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165480" y="5133960"/>
            <a:ext cx="293760" cy="6667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43280" y="5603760"/>
            <a:ext cx="305892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56200" y="1468440"/>
            <a:ext cx="0" cy="37688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4600" y="1565280"/>
            <a:ext cx="0" cy="3768840"/>
          </a:xfrm>
          <a:prstGeom prst="line">
            <a:avLst/>
          </a:prstGeom>
          <a:ln w="9360">
            <a:solidFill>
              <a:srgbClr val="d1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8280" y="165096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6000" y="12319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6 . Project across and up from the plan to the end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79680" y="3948120"/>
            <a:ext cx="64278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63920" y="1685880"/>
            <a:ext cx="0" cy="4521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778120" y="1662120"/>
            <a:ext cx="0" cy="3463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68800" y="1662120"/>
            <a:ext cx="0" cy="3463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679840" y="2417760"/>
            <a:ext cx="3333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722680" y="1832040"/>
            <a:ext cx="19922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722680" y="2122560"/>
            <a:ext cx="2735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16160" y="4459320"/>
            <a:ext cx="4157640" cy="1341360"/>
            <a:chOff x="2216160" y="4459320"/>
            <a:chExt cx="4157640" cy="1341360"/>
          </a:xfrm>
        </p:grpSpPr>
        <p:sp>
          <p:nvSpPr>
            <p:cNvPr id="134" name=""/>
            <p:cNvSpPr/>
            <p:nvPr/>
          </p:nvSpPr>
          <p:spPr>
            <a:xfrm>
              <a:off x="2216160" y="5126040"/>
              <a:ext cx="32068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78120" y="4459320"/>
              <a:ext cx="1386000" cy="132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63920" y="4459320"/>
              <a:ext cx="12589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63920" y="5788080"/>
              <a:ext cx="29098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461760" y="4846320"/>
              <a:ext cx="705960" cy="2746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463920" y="4570200"/>
              <a:ext cx="555480" cy="5554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463920" y="4459320"/>
              <a:ext cx="293760" cy="666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760120" y="5137200"/>
              <a:ext cx="701280" cy="2700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903400" y="5133960"/>
              <a:ext cx="555840" cy="5554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65480" y="5133960"/>
              <a:ext cx="293760" cy="666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65480" y="5727600"/>
              <a:ext cx="28479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3280" y="5603760"/>
              <a:ext cx="30589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8800" y="5365800"/>
              <a:ext cx="30592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02120" y="4870440"/>
              <a:ext cx="12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05040" y="4640400"/>
              <a:ext cx="13766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41760" y="4516560"/>
              <a:ext cx="123804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V="1">
            <a:off x="3176640" y="1614600"/>
            <a:ext cx="0" cy="4230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986200" y="1685520"/>
            <a:ext cx="0" cy="4070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838600" y="1696680"/>
            <a:ext cx="0" cy="3738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724200" y="1793520"/>
            <a:ext cx="0" cy="2973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948120" y="1665000"/>
            <a:ext cx="0" cy="3111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100400" y="1773000"/>
            <a:ext cx="0" cy="3206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23760" y="2390760"/>
            <a:ext cx="33512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25560" y="2330280"/>
            <a:ext cx="31896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725560" y="2225520"/>
            <a:ext cx="2941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30240" y="2025720"/>
            <a:ext cx="25383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738520" y="1925640"/>
            <a:ext cx="22003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719080" y="1863720"/>
            <a:ext cx="2144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656240" y="1662120"/>
            <a:ext cx="1358640" cy="4125600"/>
            <a:chOff x="4656240" y="1662120"/>
            <a:chExt cx="1358640" cy="4125600"/>
          </a:xfrm>
        </p:grpSpPr>
        <p:sp>
          <p:nvSpPr>
            <p:cNvPr id="167" name=""/>
            <p:cNvSpPr/>
            <p:nvPr/>
          </p:nvSpPr>
          <p:spPr>
            <a:xfrm flipV="1">
              <a:off x="6013440" y="2280960"/>
              <a:ext cx="0" cy="35067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676760" y="1662120"/>
              <a:ext cx="0" cy="279720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56240" y="1824120"/>
              <a:ext cx="1357200" cy="5871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337000" y="1999800"/>
              <a:ext cx="0" cy="31258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735440" y="1663200"/>
              <a:ext cx="0" cy="28544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888080" y="1857240"/>
              <a:ext cx="0" cy="28130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097600" y="1944360"/>
              <a:ext cx="0" cy="29350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578560" y="2084400"/>
              <a:ext cx="0" cy="3276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830920" y="2212920"/>
              <a:ext cx="0" cy="34005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969160" y="2282760"/>
              <a:ext cx="0" cy="34545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14880" y="2417760"/>
              <a:ext cx="0" cy="152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0000" y="1828800"/>
              <a:ext cx="1334880" cy="58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68840" y="3948120"/>
              <a:ext cx="1346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73520" y="1835280"/>
              <a:ext cx="0" cy="21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 txBox="1"/>
          <p:nvPr/>
        </p:nvSpPr>
        <p:spPr>
          <a:xfrm>
            <a:off x="363600" y="312840"/>
            <a:ext cx="83325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velop the elev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62576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7. Project across form the end elevation onto the elevation from the inclined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4203720"/>
            <a:ext cx="207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8. Project the up from the plan view  to intersect with the lines from the end ele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43800" y="1665360"/>
            <a:ext cx="207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9. Draw lines through each intersecting point to create the elevation view of the inclined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7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1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3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8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199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43280" y="5603760"/>
            <a:ext cx="3058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32400" y="1424160"/>
            <a:ext cx="185400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301720" y="604800"/>
            <a:ext cx="716040" cy="1622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673160" y="214200"/>
            <a:ext cx="717480" cy="1625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932080" y="666720"/>
            <a:ext cx="787320" cy="17859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565600" y="606600"/>
            <a:ext cx="74952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884840" y="411120"/>
            <a:ext cx="70776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734000" y="271440"/>
            <a:ext cx="698400" cy="1582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33000">
            <a:off x="1514160" y="4558680"/>
            <a:ext cx="1312920" cy="1170000"/>
          </a:xfrm>
          <a:custGeom>
            <a:avLst/>
            <a:gdLst/>
            <a:ahLst/>
            <a:rect l="l" t="t" r="r" b="b"/>
            <a:pathLst>
              <a:path w="864" h="733">
                <a:moveTo>
                  <a:pt x="433" y="0"/>
                </a:moveTo>
                <a:lnTo>
                  <a:pt x="864" y="727"/>
                </a:lnTo>
                <a:lnTo>
                  <a:pt x="433" y="137"/>
                </a:lnTo>
                <a:lnTo>
                  <a:pt x="0" y="733"/>
                </a:lnTo>
                <a:lnTo>
                  <a:pt x="433" y="0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6949200">
            <a:off x="6383520" y="1255680"/>
            <a:ext cx="1312560" cy="1170000"/>
          </a:xfrm>
          <a:custGeom>
            <a:avLst/>
            <a:gdLst/>
            <a:ahLst/>
            <a:rect l="l" t="t" r="r" b="b"/>
            <a:pathLst>
              <a:path w="864" h="733">
                <a:moveTo>
                  <a:pt x="433" y="0"/>
                </a:moveTo>
                <a:lnTo>
                  <a:pt x="864" y="727"/>
                </a:lnTo>
                <a:lnTo>
                  <a:pt x="433" y="137"/>
                </a:lnTo>
                <a:lnTo>
                  <a:pt x="0" y="733"/>
                </a:lnTo>
                <a:lnTo>
                  <a:pt x="433" y="0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13280" y="162000"/>
            <a:ext cx="185436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7440" y="623880"/>
            <a:ext cx="26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0.  Mark a line parallel to the inclined 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6920" y="3152880"/>
            <a:ext cx="23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2.  Set the compass to the true width of the circular 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32560" y="4284720"/>
            <a:ext cx="23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3.  Mark the true width from the parallel line and mark acro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35680" y="2263680"/>
            <a:ext cx="565200" cy="1859040"/>
          </a:xfrm>
          <a:prstGeom prst="upArrow">
            <a:avLst>
              <a:gd name="adj1" fmla="val 50000"/>
              <a:gd name="adj2" fmla="val 8222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840" y="1903320"/>
            <a:ext cx="230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1.  Project the lines at 90</a:t>
            </a:r>
            <a:r>
              <a:rPr b="0" lang="en-US" sz="1800" spc="-1" strike="noStrike" baseline="34000">
                <a:solidFill>
                  <a:srgbClr val="0066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to the inclined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1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9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8000"/>
                            </p:stCondLst>
                            <p:childTnLst>
                              <p:par>
                                <p:cTn id="28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10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40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7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7000"/>
                            </p:stCondLst>
                            <p:childTnLst>
                              <p:par>
                                <p:cTn id="296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2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4000"/>
                            </p:stCondLst>
                            <p:childTnLst>
                              <p:par>
                                <p:cTn id="30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80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254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43280" y="5603760"/>
            <a:ext cx="3058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32400" y="1424160"/>
            <a:ext cx="185400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301720" y="604800"/>
            <a:ext cx="716040" cy="1622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67316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5932080" y="666720"/>
            <a:ext cx="787320" cy="17859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5565600" y="606600"/>
            <a:ext cx="74952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884840" y="411120"/>
            <a:ext cx="70776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6233000">
            <a:off x="1935000" y="5002200"/>
            <a:ext cx="425520" cy="1136520"/>
          </a:xfrm>
          <a:custGeom>
            <a:avLst/>
            <a:gdLst/>
            <a:ahLst/>
            <a:rect l="l" t="t" r="r" b="b"/>
            <a:pathLst>
              <a:path w="864" h="733">
                <a:moveTo>
                  <a:pt x="433" y="0"/>
                </a:moveTo>
                <a:lnTo>
                  <a:pt x="864" y="727"/>
                </a:lnTo>
                <a:lnTo>
                  <a:pt x="433" y="137"/>
                </a:lnTo>
                <a:lnTo>
                  <a:pt x="0" y="733"/>
                </a:lnTo>
                <a:lnTo>
                  <a:pt x="433" y="0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6707400">
            <a:off x="6577920" y="1595160"/>
            <a:ext cx="425160" cy="1136520"/>
          </a:xfrm>
          <a:custGeom>
            <a:avLst/>
            <a:gdLst/>
            <a:ahLst/>
            <a:rect l="l" t="t" r="r" b="b"/>
            <a:pathLst>
              <a:path w="864" h="733">
                <a:moveTo>
                  <a:pt x="433" y="0"/>
                </a:moveTo>
                <a:lnTo>
                  <a:pt x="864" y="727"/>
                </a:lnTo>
                <a:lnTo>
                  <a:pt x="433" y="137"/>
                </a:lnTo>
                <a:lnTo>
                  <a:pt x="0" y="733"/>
                </a:lnTo>
                <a:lnTo>
                  <a:pt x="433" y="0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24" nodeType="afterEffect" fill="hold" presetClass="entr" presetID="1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7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306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843280" y="5603760"/>
            <a:ext cx="3058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32400" y="1424160"/>
            <a:ext cx="185400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301720" y="604800"/>
            <a:ext cx="716040" cy="1622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67316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32080" y="666720"/>
            <a:ext cx="787320" cy="17859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565600" y="606600"/>
            <a:ext cx="74952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884840" y="411120"/>
            <a:ext cx="70776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6707400">
            <a:off x="6909840" y="779400"/>
            <a:ext cx="425520" cy="1136520"/>
          </a:xfrm>
          <a:custGeom>
            <a:avLst/>
            <a:gdLst/>
            <a:ahLst/>
            <a:rect l="l" t="t" r="r" b="b"/>
            <a:pathLst>
              <a:path w="864" h="733">
                <a:moveTo>
                  <a:pt x="433" y="0"/>
                </a:moveTo>
                <a:lnTo>
                  <a:pt x="864" y="727"/>
                </a:lnTo>
                <a:lnTo>
                  <a:pt x="433" y="137"/>
                </a:lnTo>
                <a:lnTo>
                  <a:pt x="0" y="733"/>
                </a:lnTo>
                <a:lnTo>
                  <a:pt x="433" y="0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6444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358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532400" y="1424160"/>
            <a:ext cx="185400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295600" y="595440"/>
            <a:ext cx="716040" cy="1622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240160" y="306360"/>
            <a:ext cx="1527480" cy="673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04960" y="5603760"/>
            <a:ext cx="1017720" cy="18432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2292800">
            <a:off x="6184440" y="2180880"/>
            <a:ext cx="1017720" cy="18396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1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63400" y="5126040"/>
            <a:ext cx="4859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78120" y="4459320"/>
            <a:ext cx="1386000" cy="13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164120" y="3948120"/>
            <a:ext cx="22096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09800" y="4459320"/>
            <a:ext cx="1913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54360" y="5788080"/>
            <a:ext cx="3619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013440" y="2280960"/>
            <a:ext cx="0" cy="3506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676760" y="1662120"/>
            <a:ext cx="0" cy="2797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56240" y="1824120"/>
            <a:ext cx="1357200" cy="587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337000" y="1999800"/>
            <a:ext cx="0" cy="3125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461760" y="4846320"/>
            <a:ext cx="705960" cy="274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463920" y="4570200"/>
            <a:ext cx="555480" cy="555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463920" y="4459320"/>
            <a:ext cx="29376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760120" y="5133960"/>
            <a:ext cx="701280" cy="666360"/>
            <a:chOff x="2760120" y="5133960"/>
            <a:chExt cx="701280" cy="666360"/>
          </a:xfrm>
        </p:grpSpPr>
        <p:sp>
          <p:nvSpPr>
            <p:cNvPr id="412" name=""/>
            <p:cNvSpPr/>
            <p:nvPr/>
          </p:nvSpPr>
          <p:spPr>
            <a:xfrm flipH="1">
              <a:off x="2760120" y="5137200"/>
              <a:ext cx="701280" cy="269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2903760" y="5133960"/>
              <a:ext cx="555480" cy="5551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165480" y="5133960"/>
              <a:ext cx="293760" cy="666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3165480" y="5727600"/>
            <a:ext cx="28479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749680" y="5603760"/>
            <a:ext cx="3152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28800" y="5365800"/>
            <a:ext cx="3059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002120" y="4870440"/>
            <a:ext cx="12031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605040" y="4640400"/>
            <a:ext cx="13766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41760" y="4516560"/>
            <a:ext cx="12380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735440" y="1663200"/>
            <a:ext cx="0" cy="2854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888080" y="1857240"/>
            <a:ext cx="0" cy="28130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097600" y="1944360"/>
            <a:ext cx="0" cy="2935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578560" y="2084400"/>
            <a:ext cx="0" cy="327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30920" y="2212920"/>
            <a:ext cx="0" cy="3400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969160" y="2282760"/>
            <a:ext cx="0" cy="345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79560" y="1828800"/>
            <a:ext cx="1382760" cy="5889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79560" y="2124000"/>
            <a:ext cx="0" cy="182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68800" y="2124000"/>
            <a:ext cx="0" cy="181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4880" y="2417760"/>
            <a:ext cx="0" cy="15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680000" y="1828800"/>
            <a:ext cx="133488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73440" y="3940200"/>
            <a:ext cx="138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68840" y="3948120"/>
            <a:ext cx="1346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73520" y="1835280"/>
            <a:ext cx="0" cy="2117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32400" y="1424160"/>
            <a:ext cx="1854000" cy="817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295600" y="595440"/>
            <a:ext cx="716040" cy="1622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011640" y="582480"/>
            <a:ext cx="817560" cy="1854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4669920" y="235080"/>
            <a:ext cx="708120" cy="16048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941800" y="676440"/>
            <a:ext cx="787320" cy="1785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797440" y="725400"/>
            <a:ext cx="749520" cy="1689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5555880" y="581040"/>
            <a:ext cx="749160" cy="1698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074920" y="495360"/>
            <a:ext cx="695160" cy="157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865400" y="376200"/>
            <a:ext cx="708120" cy="16066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4733640" y="276120"/>
            <a:ext cx="695160" cy="157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40160" y="306360"/>
            <a:ext cx="1513080" cy="6667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40200" y="1101600"/>
            <a:ext cx="1567080" cy="6908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2292800">
            <a:off x="6684480" y="1188720"/>
            <a:ext cx="1017720" cy="183960"/>
          </a:xfrm>
          <a:custGeom>
            <a:avLst/>
            <a:gdLst/>
            <a:ahLst/>
            <a:rect l="l" t="t" r="r" b="b"/>
            <a:pathLst>
              <a:path w="641" h="116">
                <a:moveTo>
                  <a:pt x="641" y="116"/>
                </a:moveTo>
                <a:lnTo>
                  <a:pt x="0" y="63"/>
                </a:lnTo>
                <a:lnTo>
                  <a:pt x="637" y="0"/>
                </a:lnTo>
                <a:lnTo>
                  <a:pt x="350" y="59"/>
                </a:lnTo>
                <a:lnTo>
                  <a:pt x="641" y="116"/>
                </a:lnTo>
                <a:close/>
              </a:path>
            </a:pathLst>
          </a:custGeom>
          <a:solidFill>
            <a:srgbClr val="fae8a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64240" y="12970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5072040" y="71928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113440" y="455760"/>
            <a:ext cx="1566720" cy="6904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20840" y="92880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4. Continue to reset and mark of the true widths a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01:20:07Z</dcterms:created>
  <dc:creator>gcheetham</dc:creator>
  <dc:description/>
  <dc:language>en-US</dc:language>
  <cp:lastModifiedBy>gcheetham</cp:lastModifiedBy>
  <dcterms:modified xsi:type="dcterms:W3CDTF">2007-09-12T02:11:35Z</dcterms:modified>
  <cp:revision>2</cp:revision>
  <dc:subject/>
  <dc:title>Slide 1</dc:title>
</cp:coreProperties>
</file>